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9760" y="644832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F1204-ADBD-452F-AF68-340D958982E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4880" y="469116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, 2010-11-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2440" y="1536840"/>
            <a:ext cx="5903640" cy="4484520"/>
            <a:chOff x="622440" y="1536840"/>
            <a:chExt cx="5903640" cy="4484520"/>
          </a:xfrm>
        </p:grpSpPr>
        <p:sp>
          <p:nvSpPr>
            <p:cNvPr id="172" name=""/>
            <p:cNvSpPr/>
            <p:nvPr/>
          </p:nvSpPr>
          <p:spPr>
            <a:xfrm>
              <a:off x="754200" y="1687680"/>
              <a:ext cx="554184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480" y="1554120"/>
              <a:ext cx="586260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7840" y="1095480"/>
            <a:ext cx="4341600" cy="5024160"/>
            <a:chOff x="177840" y="1095480"/>
            <a:chExt cx="4341600" cy="5024160"/>
          </a:xfrm>
        </p:grpSpPr>
        <p:sp>
          <p:nvSpPr>
            <p:cNvPr id="190" name=""/>
            <p:cNvSpPr/>
            <p:nvPr/>
          </p:nvSpPr>
          <p:spPr>
            <a:xfrm>
              <a:off x="247680" y="1247760"/>
              <a:ext cx="4271760" cy="487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840" y="1130400"/>
              <a:ext cx="429408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080" y="1095480"/>
              <a:ext cx="422568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1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8320" y="1095480"/>
            <a:ext cx="4356000" cy="5048280"/>
            <a:chOff x="4648320" y="1095480"/>
            <a:chExt cx="4356000" cy="5048280"/>
          </a:xfrm>
        </p:grpSpPr>
        <p:sp>
          <p:nvSpPr>
            <p:cNvPr id="194" name=""/>
            <p:cNvSpPr/>
            <p:nvPr/>
          </p:nvSpPr>
          <p:spPr>
            <a:xfrm>
              <a:off x="4719600" y="1247760"/>
              <a:ext cx="428472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8320" y="1130400"/>
              <a:ext cx="4306680" cy="494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760" y="1095480"/>
              <a:ext cx="423864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1206360"/>
            <a:ext cx="6805440" cy="4329360"/>
            <a:chOff x="1447920" y="1206360"/>
            <a:chExt cx="6805440" cy="4329360"/>
          </a:xfrm>
        </p:grpSpPr>
        <p:sp>
          <p:nvSpPr>
            <p:cNvPr id="200" name=""/>
            <p:cNvSpPr/>
            <p:nvPr/>
          </p:nvSpPr>
          <p:spPr>
            <a:xfrm>
              <a:off x="1569960" y="1325520"/>
              <a:ext cx="6683400" cy="421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1206360"/>
              <a:ext cx="6683400" cy="42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5840" y="122220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01680" y="3262320"/>
            <a:ext cx="4557600" cy="1598760"/>
            <a:chOff x="1201680" y="3262320"/>
            <a:chExt cx="4557600" cy="1598760"/>
          </a:xfrm>
        </p:grpSpPr>
        <p:sp>
          <p:nvSpPr>
            <p:cNvPr id="208" name=""/>
            <p:cNvSpPr/>
            <p:nvPr/>
          </p:nvSpPr>
          <p:spPr>
            <a:xfrm>
              <a:off x="1282680" y="3308400"/>
              <a:ext cx="447660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01680" y="326232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7080" y="1171440"/>
            <a:ext cx="4470480" cy="5023080"/>
            <a:chOff x="127080" y="1171440"/>
            <a:chExt cx="4470480" cy="5023080"/>
          </a:xfrm>
        </p:grpSpPr>
        <p:sp>
          <p:nvSpPr>
            <p:cNvPr id="217" name=""/>
            <p:cNvSpPr/>
            <p:nvPr/>
          </p:nvSpPr>
          <p:spPr>
            <a:xfrm>
              <a:off x="200160" y="1324080"/>
              <a:ext cx="439740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080" y="1204920"/>
              <a:ext cx="441936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520" y="1171440"/>
              <a:ext cx="43498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11680" y="1158840"/>
            <a:ext cx="4430880" cy="5048280"/>
            <a:chOff x="4711680" y="1158840"/>
            <a:chExt cx="4430880" cy="5048280"/>
          </a:xfrm>
        </p:grpSpPr>
        <p:sp>
          <p:nvSpPr>
            <p:cNvPr id="221" name=""/>
            <p:cNvSpPr/>
            <p:nvPr/>
          </p:nvSpPr>
          <p:spPr>
            <a:xfrm>
              <a:off x="4782960" y="1311120"/>
              <a:ext cx="435960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1193760"/>
              <a:ext cx="438156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1920" y="1158840"/>
              <a:ext cx="431172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8840" y="2111400"/>
            <a:ext cx="8885160" cy="1847880"/>
            <a:chOff x="258840" y="2111400"/>
            <a:chExt cx="8885160" cy="1847880"/>
          </a:xfrm>
        </p:grpSpPr>
        <p:sp>
          <p:nvSpPr>
            <p:cNvPr id="227" name=""/>
            <p:cNvSpPr/>
            <p:nvPr/>
          </p:nvSpPr>
          <p:spPr>
            <a:xfrm>
              <a:off x="401760" y="2135160"/>
              <a:ext cx="874224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840" y="2111400"/>
              <a:ext cx="874224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440" y="3975120"/>
            <a:ext cx="8926560" cy="2144520"/>
            <a:chOff x="217440" y="3975120"/>
            <a:chExt cx="8926560" cy="2144520"/>
          </a:xfrm>
        </p:grpSpPr>
        <p:sp>
          <p:nvSpPr>
            <p:cNvPr id="230" name=""/>
            <p:cNvSpPr/>
            <p:nvPr/>
          </p:nvSpPr>
          <p:spPr>
            <a:xfrm>
              <a:off x="378000" y="4033800"/>
              <a:ext cx="8766000" cy="2085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440" y="3975120"/>
              <a:ext cx="8766360" cy="20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3979800"/>
              <a:ext cx="87073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Map    "Map over a list o elements of Type_a,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Type_a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2933640"/>
            <a:ext cx="8636040" cy="1460520"/>
            <a:chOff x="241200" y="2933640"/>
            <a:chExt cx="8636040" cy="1460520"/>
          </a:xfrm>
        </p:grpSpPr>
        <p:sp>
          <p:nvSpPr>
            <p:cNvPr id="236" name=""/>
            <p:cNvSpPr/>
            <p:nvPr/>
          </p:nvSpPr>
          <p:spPr>
            <a:xfrm>
              <a:off x="396720" y="2973240"/>
              <a:ext cx="8480520" cy="1420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200" y="2933640"/>
              <a:ext cx="8480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2360" y="2938320"/>
              <a:ext cx="842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4160" y="4559400"/>
            <a:ext cx="8673840" cy="1638360"/>
            <a:chOff x="254160" y="4559400"/>
            <a:chExt cx="8673840" cy="1638360"/>
          </a:xfrm>
        </p:grpSpPr>
        <p:sp>
          <p:nvSpPr>
            <p:cNvPr id="240" name=""/>
            <p:cNvSpPr/>
            <p:nvPr/>
          </p:nvSpPr>
          <p:spPr>
            <a:xfrm>
              <a:off x="411120" y="4605480"/>
              <a:ext cx="8516880" cy="159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4559400"/>
              <a:ext cx="8516880" cy="15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4960" y="4564080"/>
              <a:ext cx="8460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8840" y="4660920"/>
            <a:ext cx="7085160" cy="1371600"/>
            <a:chOff x="888840" y="4660920"/>
            <a:chExt cx="7085160" cy="1371600"/>
          </a:xfrm>
        </p:grpSpPr>
        <p:sp>
          <p:nvSpPr>
            <p:cNvPr id="248" name=""/>
            <p:cNvSpPr/>
            <p:nvPr/>
          </p:nvSpPr>
          <p:spPr>
            <a:xfrm>
              <a:off x="1015920" y="4699080"/>
              <a:ext cx="6958080" cy="13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8840" y="4660920"/>
              <a:ext cx="69580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760" y="4665600"/>
              <a:ext cx="6912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Op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 type Type_a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ubtypeof An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2082960"/>
            <a:ext cx="6729480" cy="771480"/>
            <a:chOff x="914400" y="2082960"/>
            <a:chExt cx="6729480" cy="771480"/>
          </a:xfrm>
        </p:grpSpPr>
        <p:sp>
          <p:nvSpPr>
            <p:cNvPr id="252" name=""/>
            <p:cNvSpPr/>
            <p:nvPr/>
          </p:nvSpPr>
          <p:spPr>
            <a:xfrm>
              <a:off x="1035000" y="2103480"/>
              <a:ext cx="6608880" cy="750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082960"/>
              <a:ext cx="660888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4394160"/>
            <a:ext cx="6705720" cy="1164240"/>
            <a:chOff x="876240" y="4394160"/>
            <a:chExt cx="6705720" cy="1164240"/>
          </a:xfrm>
        </p:grpSpPr>
        <p:sp>
          <p:nvSpPr>
            <p:cNvPr id="258" name=""/>
            <p:cNvSpPr/>
            <p:nvPr/>
          </p:nvSpPr>
          <p:spPr>
            <a:xfrm>
              <a:off x="1025640" y="4427640"/>
              <a:ext cx="6292800" cy="946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240" y="4394160"/>
              <a:ext cx="63327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556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9280" y="3192480"/>
            <a:ext cx="5219640" cy="1847880"/>
            <a:chOff x="179280" y="3192480"/>
            <a:chExt cx="5219640" cy="1847880"/>
          </a:xfrm>
        </p:grpSpPr>
        <p:sp>
          <p:nvSpPr>
            <p:cNvPr id="269" name=""/>
            <p:cNvSpPr/>
            <p:nvPr/>
          </p:nvSpPr>
          <p:spPr>
            <a:xfrm>
              <a:off x="263520" y="3216240"/>
              <a:ext cx="513540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280" y="3192480"/>
              <a:ext cx="513576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60720" y="3600360"/>
            <a:ext cx="5759280" cy="2698920"/>
            <a:chOff x="3060720" y="3600360"/>
            <a:chExt cx="5759280" cy="2698920"/>
          </a:xfrm>
        </p:grpSpPr>
        <p:sp>
          <p:nvSpPr>
            <p:cNvPr id="272" name=""/>
            <p:cNvSpPr/>
            <p:nvPr/>
          </p:nvSpPr>
          <p:spPr>
            <a:xfrm>
              <a:off x="3152880" y="3633840"/>
              <a:ext cx="5667120" cy="266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3600360"/>
              <a:ext cx="566748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for as-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winter 2010 - spring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2680" y="2120760"/>
            <a:ext cx="4051440" cy="2971800"/>
            <a:chOff x="1282680" y="2120760"/>
            <a:chExt cx="4051440" cy="2971800"/>
          </a:xfrm>
        </p:grpSpPr>
        <p:sp>
          <p:nvSpPr>
            <p:cNvPr id="102" name=""/>
            <p:cNvSpPr/>
            <p:nvPr/>
          </p:nvSpPr>
          <p:spPr>
            <a:xfrm>
              <a:off x="1355760" y="228132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2680" y="2120760"/>
              <a:ext cx="397836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360" y="2131920"/>
              <a:ext cx="39513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8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13" name=""/>
            <p:cNvSpPr/>
            <p:nvPr/>
          </p:nvSpPr>
          <p:spPr>
            <a:xfrm>
              <a:off x="724860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36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8080" y="4778280"/>
              <a:ext cx="14400" cy="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4956120"/>
              <a:ext cx="1440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47782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108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6312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40600" y="47782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40600" y="49561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0600" y="47782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5816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7440" y="3884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5808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808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5500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44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0" y="2165400"/>
            <a:ext cx="5751720" cy="2693880"/>
            <a:chOff x="3240000" y="2165400"/>
            <a:chExt cx="5751720" cy="2693880"/>
          </a:xfrm>
        </p:grpSpPr>
        <p:sp>
          <p:nvSpPr>
            <p:cNvPr id="134" name=""/>
            <p:cNvSpPr/>
            <p:nvPr/>
          </p:nvSpPr>
          <p:spPr>
            <a:xfrm>
              <a:off x="3300480" y="2287440"/>
              <a:ext cx="5691240" cy="2571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0" y="2165400"/>
              <a:ext cx="5691240" cy="25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13000" y="1316160"/>
            <a:ext cx="57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2560" y="2158920"/>
            <a:ext cx="2989440" cy="2130480"/>
            <a:chOff x="142560" y="2158920"/>
            <a:chExt cx="2989440" cy="2130480"/>
          </a:xfrm>
        </p:grpSpPr>
        <p:sp>
          <p:nvSpPr>
            <p:cNvPr id="139" name=""/>
            <p:cNvSpPr/>
            <p:nvPr/>
          </p:nvSpPr>
          <p:spPr>
            <a:xfrm>
              <a:off x="144360" y="2158920"/>
              <a:ext cx="298764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340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298296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" y="29829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440" y="3218040"/>
              <a:ext cx="1404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" y="3395520"/>
              <a:ext cx="140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" y="3218040"/>
              <a:ext cx="1404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020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208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3960" y="38638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40417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3960" y="38638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696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900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6840" y="3863880"/>
              <a:ext cx="14040" cy="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6840" y="4041720"/>
              <a:ext cx="1404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840" y="3863880"/>
              <a:ext cx="1404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404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440" y="297036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440" y="2421000"/>
              <a:ext cx="836640" cy="5619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3320" y="2970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3680" y="2421000"/>
              <a:ext cx="822240" cy="56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332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ölund</cp:lastModifiedBy>
  <dcterms:modified xsi:type="dcterms:W3CDTF">2009-10-21T09:02:41Z</dcterms:modified>
  <cp:revision>570</cp:revision>
  <dc:subject/>
  <dc:title>Slide 1</dc:title>
</cp:coreProperties>
</file>